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2B249-D7CF-4A0A-B74A-991C941D54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4ADE2-B458-4479-88B5-A101645BD3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0B375-EF67-485E-A19E-902B5D908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766ED-4414-4B4C-BF3F-5FC9A9C96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A0271-3C59-4DB0-8E26-4F5F2CD674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5B5E2-B288-41FE-947A-6DE7DC3186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F98C9-E352-48B7-8E2C-90D503845C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23FAE-18C5-4FF7-A4ED-A6257C4C1C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CB7C9-735F-44AF-BFF8-B80493E703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3C976-6DDB-473F-906F-7A8352EF1C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B2F24-29D8-4A28-A0C4-36DA40B0B2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4BEDC-DEAF-4549-BED9-D4A9D090E4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1DD68-BE71-4235-8273-3AB2375441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D2524-8685-4B71-B506-63F1DC5C95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41A62-EA8D-4711-8252-D792AC639D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49057-346A-49B4-92AF-6F7085FEA1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1F967-C547-4C86-B47D-65FC48AF48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EEF3C-C0D2-4207-B63D-1FE442697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92117-9390-44B1-AAC6-8AC489EB23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AB521-34EF-48EE-9194-AACEAC54EE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8FBE2-72ED-4F87-9212-BD6FF4AB1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DD696-1949-41D2-A52D-92D453E77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D9427-2207-4A9A-80B8-59AEE31642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61CA2-B52D-4741-A133-B65039578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6C7F6A2-162C-4257-AC28-C609E41A3F7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6CD5E2E-761D-4CB5-BAA7-6E37A083F30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59280" y="77760"/>
            <a:ext cx="55814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69228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6D1D177-13EB-4C8C-8437-0BBA20A9F150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EAD374C-948A-4780-9EF6-532B947E9D0A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kker et al. (2019) Avoid using ‘canned’ effect sizes if possible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 (also has in-built routines added V27+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21-09-29T12:10:00Z</dcterms:modified>
  <cp:revision>262</cp:revision>
  <dc:subject/>
  <dc:title>8: SAMPLE SIZE DETERMINATION</dc:title>
</cp:coreProperties>
</file>